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A43D-D2C7-4F2E-9D82-D39776FA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5557-653B-4181-ABD5-FFCAEFF2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B8235-36D4-4A64-9A6C-009728CF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F192-159B-4781-B94D-F1C045BE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264A-E078-4452-AD02-24EDAB69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6C31-A552-4020-A948-900C2B93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E08F-0D5E-4FC4-B775-2498BAB7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4DB7-4F41-45FC-85F3-ECF42315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0051-6EFA-4B19-BF9B-6861D6ED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5685-5209-4272-88A6-88C0786D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6C01-C89C-4973-8F9A-C1AE07F6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119F-162A-456D-84F5-315F8041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7933-2D19-4456-8813-7DEE2E0C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60E0-0AFA-4C1D-B26C-35D31DD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C9AE-37B7-48F7-927E-F0D4C15E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49D3-5953-48BB-ACF6-6972E589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FDB3-7717-4A2B-9E3A-DF5190FA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4CA56-49FE-41BC-BE9D-EED93F1E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2C8A-8C0A-410D-A3C9-EE70ED80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1837-20CF-4275-99E5-6F051974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F7E6-28C8-432B-A69F-DD9AE4FB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7A9C-7CCD-464A-8412-2B76F742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D9A5-0AE7-4349-878E-84831E88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2E94-C4EC-42FC-B190-D8D8C2A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A0B3-DD77-44B2-BBE4-9E50D3F7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8155-1037-42B3-8F29-048EE1DB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820E-736A-4086-9E05-04F2070A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AE563-C45F-401B-B797-5FADB462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1FE93-9F68-4EB8-8CD2-EE159021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91B1-6F35-4607-B84D-0C86B519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03FBC-36E8-466A-ABCC-FB13BBE0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DA6C-144E-41BF-9572-72CD2D14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D8EC4-44A9-4643-BC01-305B5011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3590-03EA-4FA6-8C82-55283C00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75B17-63C7-4E0D-BA9B-C72E2F21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8B48-C7DC-4026-82FC-0AB07202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8BB5-4D23-48F6-BDF1-4C932332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DA265-EB0B-432D-A804-68925678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C8F40-3B15-4715-A099-E6956DC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03D94-26D9-4A12-9E97-88BD1EAD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6331-386E-4FA1-83DF-A02BFF92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14210-E4BD-4FB5-B0BC-70059B12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37C6-74BC-4651-B8F0-6F967883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C5CC-EB4F-4BD9-8490-FB5C903E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0DE6B-DB60-48D5-99A9-1D520FDE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326C-E005-4FF0-9BC5-164E53E2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2CD9-A17E-4AC8-A1B6-43960974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DFCCB-AE81-4A12-8A77-790FE172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7898-9413-4750-A80C-426B2F817C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0D27-6726-4704-8652-954731B271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6A15-E4E7-4CCE-8FFC-EB64C5829B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09C5-3395-417D-8827-4AF3D76410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amazon.com/gp/reader/0698116151/ref=sib_dp_pt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amazon.com/gp/reader/0689844476/ref=sib_dp_pt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Black"/>
              </a:rPr>
              <a:t>Patricia Polacco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rn in Lansing, Michigan in July 11 1944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r lif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5238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ved in Williamston, Michigan until her parents got divorced when she was 3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 a child she was shy, and spent a lot of her time in her imagination because is were she felt safe and g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568600" y="3976560"/>
            <a:ext cx="1332000" cy="1597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1371600" cy="1952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743200" y="2209680"/>
            <a:ext cx="1495440" cy="1009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80880" y="1828800"/>
            <a:ext cx="1714680" cy="12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 learned to read at age 14, also she was diagnosed with dyslexi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 has studied in the United States and Australia, and she has both a bachelor’s and master’s degree in Fine Art and a PhD in Art Histo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 is a mother of two childr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208400" y="304920"/>
            <a:ext cx="7318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re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3926160" cy="2059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66640" y="3955680"/>
            <a:ext cx="3926160" cy="2063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e started writing books when she was 41 years old, she is also the illustrat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of her books have been translated into Spanish for example Chicken Sunday, Pink and Say, The Keeping Quil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Chicken Sunda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1828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The Keeping Quilt (Aladdin Picture Books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43200" y="4038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acco directs many of her books to primary grade audie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ral of her books are retellings of family sto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e uses fantasy and folklore as a point for her stories, she also mixes fantasy and realism in several of her work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95880" y="380880"/>
            <a:ext cx="1981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r Inspir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800600" y="121932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3548160"/>
            <a:ext cx="800100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lationship with her grandparents influenced her life and wor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is well known for celebrating different cultures and ethnic backgrounds in her book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lived in Union City Michigan, then she went to New York and Oakland Californi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858000" y="457200"/>
            <a:ext cx="1927080" cy="2114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2286000" y="1905120"/>
            <a:ext cx="19051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tricia is currently working at events like writing seminars, story telling festivals, literature conferences and various events that celebrate children's literatur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858000" y="685800"/>
            <a:ext cx="1162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9:41:51Z</dcterms:created>
  <dc:creator>Ozzie Jaime</dc:creator>
  <dc:description/>
  <dc:language>en-US</dc:language>
  <cp:lastModifiedBy>caitlin halstead</cp:lastModifiedBy>
  <dcterms:modified xsi:type="dcterms:W3CDTF">2008-06-30T15:20:48Z</dcterms:modified>
  <cp:revision>12</cp:revision>
  <dc:subject/>
  <dc:title>Patricia Polacco</dc:title>
</cp:coreProperties>
</file>